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31E-31FE-44AC-A206-8170559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3B1-1ED3-4656-8E24-80F48524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B8B-AC9A-4BDA-9D7A-FA89DB66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17-2C34-4CE5-AD19-1DEC4515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AF08F-F115-45A6-B0AA-82C02F1B6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28B5-EBDA-45F4-A9E3-7A153B5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2EAF-3EDC-4C8A-A8D7-3BF3262E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9730-CE07-402A-AE87-E96252A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B54B-CF6E-46C4-BA24-F259C82D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A246-78CC-4C33-917F-514EB3DB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4F3B-D34F-42AE-82AC-B477AE5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C99-37D0-4AFF-A450-E2C1D3A7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A2565-8D72-4CBE-8717-64CC97FD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58D56-6830-4946-81B7-D8ADA3E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330A3-829D-4C8B-8F7E-0EF9356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61F1-9376-4FCA-AE7C-B1DE328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BB14-2602-41E3-9850-DEFC3397C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CF9-EDC2-49D1-AE05-77DE4DA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8FF-7393-4558-8803-FE2BC824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989-77F9-49ED-B288-7A5D4EF9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78B-6DDB-44D5-9AC5-7FDF6C2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2F0-F734-4CEA-85C9-B69B905E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74B-1639-4650-88C7-3638E3D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86D-7325-45A9-95EF-8B1F1DE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3F4-29DC-49F4-BACD-A84B12C4655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36"/>
          <p:cNvSpPr/>
          <p:nvPr/>
        </p:nvSpPr>
        <p:spPr>
          <a:xfrm>
            <a:off x="250920" y="260280"/>
            <a:ext cx="8713800" cy="3470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ntesi tempistica attuazione Federalismo demaniale - art. 56 bis ‘Decreto del Far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46"/>
          <p:cNvSpPr/>
          <p:nvPr/>
        </p:nvSpPr>
        <p:spPr>
          <a:xfrm>
            <a:off x="7524720" y="2708280"/>
            <a:ext cx="1293840" cy="36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n proprio provve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7"/>
          <p:cNvSpPr/>
          <p:nvPr/>
        </p:nvSpPr>
        <p:spPr>
          <a:xfrm>
            <a:off x="108000" y="2432160"/>
            <a:ext cx="1295280" cy="1517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mu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ittà metropolit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vi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g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1"/>
          <p:cNvSpPr/>
          <p:nvPr/>
        </p:nvSpPr>
        <p:spPr>
          <a:xfrm>
            <a:off x="3203640" y="765000"/>
            <a:ext cx="187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Dal </a:t>
            </a: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1 settemb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al 30 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54"/>
          <p:cNvSpPr/>
          <p:nvPr/>
        </p:nvSpPr>
        <p:spPr>
          <a:xfrm>
            <a:off x="3373560" y="2421000"/>
            <a:ext cx="1511280" cy="261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ottoscritta dal rappresentante legale  dell’en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dicazione del b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nalità suo utiliz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ventuali risorse finanziarie dedicate al suo utilizzo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(questa previsione è strettamente legata alle finalità ed al modo di valorizzazione e di utilizzo del ben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56"/>
          <p:cNvSpPr/>
          <p:nvPr/>
        </p:nvSpPr>
        <p:spPr>
          <a:xfrm>
            <a:off x="1476360" y="2413080"/>
            <a:ext cx="1800360" cy="3319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Beni immobili siti sul territorio degli enti, previsti dall’articolo 5, comma 1, lettera e),  e comma 4, del d.lgs. n.85/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Si tratta dei cosiddetti “beni trasferibili” dello Stato e in uso al Ministero della difesa che possono essere  trasferiti perché non  ricompresi  tra  quelli  utilizzati  per  le funzioni di difesa e sicurezza nazionale, nonché non  funzionali alla realizzazione dei programmi di riorganizzazione dello  strumento milita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58"/>
          <p:cNvSpPr/>
          <p:nvPr/>
        </p:nvSpPr>
        <p:spPr>
          <a:xfrm>
            <a:off x="250920" y="1341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77"/>
          <p:cNvSpPr/>
          <p:nvPr/>
        </p:nvSpPr>
        <p:spPr>
          <a:xfrm>
            <a:off x="1692360" y="1484280"/>
            <a:ext cx="1655640" cy="755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74" y="0"/>
                </a:lnTo>
                <a:lnTo>
                  <a:pt x="21600" y="10800"/>
                </a:lnTo>
                <a:lnTo>
                  <a:pt x="174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MMOB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RASFERIB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2"/>
          <p:cNvSpPr/>
          <p:nvPr/>
        </p:nvSpPr>
        <p:spPr>
          <a:xfrm>
            <a:off x="3348000" y="1341360"/>
            <a:ext cx="17287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77"/>
          <p:cNvSpPr/>
          <p:nvPr/>
        </p:nvSpPr>
        <p:spPr>
          <a:xfrm>
            <a:off x="7093080" y="1484280"/>
            <a:ext cx="1871640" cy="755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9" y="0"/>
                </a:lnTo>
                <a:lnTo>
                  <a:pt x="21600" y="10800"/>
                </a:lnTo>
                <a:lnTo>
                  <a:pt x="18439" y="21600"/>
                </a:lnTo>
                <a:lnTo>
                  <a:pt x="0" y="21600"/>
                </a:lnTo>
                <a:lnTo>
                  <a:pt x="3161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ts val="1074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AGENZIA DEMANI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074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TRASFERIS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074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BENE RICHI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66"/>
          <p:cNvSpPr/>
          <p:nvPr/>
        </p:nvSpPr>
        <p:spPr>
          <a:xfrm>
            <a:off x="5508720" y="1341360"/>
            <a:ext cx="129528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77"/>
          <p:cNvSpPr/>
          <p:nvPr/>
        </p:nvSpPr>
        <p:spPr>
          <a:xfrm>
            <a:off x="5003640" y="1484280"/>
            <a:ext cx="1873440" cy="75420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DECIS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GENZIA DEMAN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68"/>
          <p:cNvSpPr/>
          <p:nvPr/>
        </p:nvSpPr>
        <p:spPr>
          <a:xfrm>
            <a:off x="5076720" y="2708280"/>
            <a:ext cx="172872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sito posi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72"/>
          <p:cNvSpPr/>
          <p:nvPr/>
        </p:nvSpPr>
        <p:spPr>
          <a:xfrm>
            <a:off x="4986360" y="4187880"/>
            <a:ext cx="1942920" cy="1486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’Agenzia del Demanio comunica motivi ostativi all’accoglimento della richiesta  all’ente che ha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renta giorn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 tempo per presentare una nuova richiesta con documenti idonei a superare i motivi ostativi indica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77"/>
          <p:cNvSpPr/>
          <p:nvPr/>
        </p:nvSpPr>
        <p:spPr>
          <a:xfrm>
            <a:off x="3276720" y="1484280"/>
            <a:ext cx="1871640" cy="865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8" y="0"/>
                </a:lnTo>
                <a:lnTo>
                  <a:pt x="21600" y="10800"/>
                </a:lnTo>
                <a:lnTo>
                  <a:pt x="18058" y="21600"/>
                </a:lnTo>
                <a:lnTo>
                  <a:pt x="0" y="21600"/>
                </a:lnTo>
                <a:lnTo>
                  <a:pt x="3542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GENZIA DEMAN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RICHI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TTRIBU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62"/>
          <p:cNvSpPr/>
          <p:nvPr/>
        </p:nvSpPr>
        <p:spPr>
          <a:xfrm>
            <a:off x="7236000" y="1341360"/>
            <a:ext cx="17287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5"/>
          <p:cNvSpPr/>
          <p:nvPr/>
        </p:nvSpPr>
        <p:spPr>
          <a:xfrm>
            <a:off x="5148360" y="76500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entro 60 gg. dalla ricezione delle domande di attribu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77"/>
          <p:cNvSpPr/>
          <p:nvPr/>
        </p:nvSpPr>
        <p:spPr>
          <a:xfrm>
            <a:off x="88920" y="1484280"/>
            <a:ext cx="1584360" cy="7556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6" y="0"/>
                </a:lnTo>
                <a:lnTo>
                  <a:pt x="21600" y="10800"/>
                </a:lnTo>
                <a:lnTo>
                  <a:pt x="172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OGGETTI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74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RICHIED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8"/>
          <p:cNvSpPr/>
          <p:nvPr/>
        </p:nvSpPr>
        <p:spPr>
          <a:xfrm>
            <a:off x="5076720" y="3284640"/>
            <a:ext cx="1728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sito neg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in giù 31"/>
          <p:cNvSpPr/>
          <p:nvPr/>
        </p:nvSpPr>
        <p:spPr>
          <a:xfrm>
            <a:off x="5796000" y="2276640"/>
            <a:ext cx="288720" cy="431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ngolare in su 33"/>
          <p:cNvSpPr/>
          <p:nvPr/>
        </p:nvSpPr>
        <p:spPr>
          <a:xfrm>
            <a:off x="6804000" y="2205000"/>
            <a:ext cx="720720" cy="792360"/>
          </a:xfrm>
          <a:custGeom>
            <a:avLst/>
            <a:gdLst>
              <a:gd name="textAreaLeft" fmla="*/ 0 w 720720"/>
              <a:gd name="textAreaRight" fmla="*/ 642960 w 720720"/>
              <a:gd name="textAreaTop" fmla="*/ 612360 h 792360"/>
              <a:gd name="textAreaBottom" fmla="*/ 792720 h 792360"/>
            </a:gdLst>
            <a:ahLst/>
            <a:rect l="textAreaLeft" t="textAreaTop" r="textAreaRight" b="textAreaBottom"/>
            <a:pathLst>
              <a:path w="720725" h="792162">
                <a:moveTo>
                  <a:pt x="0" y="611981"/>
                </a:moveTo>
                <a:lnTo>
                  <a:pt x="462705" y="611981"/>
                </a:lnTo>
                <a:lnTo>
                  <a:pt x="462705" y="180181"/>
                </a:lnTo>
                <a:lnTo>
                  <a:pt x="384867" y="180181"/>
                </a:lnTo>
                <a:lnTo>
                  <a:pt x="552796" y="0"/>
                </a:lnTo>
                <a:lnTo>
                  <a:pt x="720725" y="180181"/>
                </a:lnTo>
                <a:lnTo>
                  <a:pt x="642887" y="180181"/>
                </a:lnTo>
                <a:lnTo>
                  <a:pt x="642887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ccia in giù 34"/>
          <p:cNvSpPr/>
          <p:nvPr/>
        </p:nvSpPr>
        <p:spPr>
          <a:xfrm>
            <a:off x="5796000" y="3716280"/>
            <a:ext cx="288720" cy="4255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ccia in giù 37"/>
          <p:cNvSpPr/>
          <p:nvPr/>
        </p:nvSpPr>
        <p:spPr>
          <a:xfrm>
            <a:off x="8028000" y="2239920"/>
            <a:ext cx="289080" cy="468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ccia in giù 25"/>
          <p:cNvSpPr/>
          <p:nvPr/>
        </p:nvSpPr>
        <p:spPr>
          <a:xfrm>
            <a:off x="8028000" y="3087720"/>
            <a:ext cx="289080" cy="5032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46"/>
          <p:cNvSpPr/>
          <p:nvPr/>
        </p:nvSpPr>
        <p:spPr>
          <a:xfrm>
            <a:off x="7316640" y="3573360"/>
            <a:ext cx="1729080" cy="159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 beni trasferiti, con tutte le pertinenze, accessori, oneri e pesi, entrano a far parte del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atrimonio disponibil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l’Ente. Il trasferimento ha luogo nello stato di fatto e di diritto in cui i beni si trova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ccia in giù 28"/>
          <p:cNvSpPr/>
          <p:nvPr/>
        </p:nvSpPr>
        <p:spPr>
          <a:xfrm>
            <a:off x="8099280" y="5168880"/>
            <a:ext cx="289080" cy="3668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46"/>
          <p:cNvSpPr/>
          <p:nvPr/>
        </p:nvSpPr>
        <p:spPr>
          <a:xfrm>
            <a:off x="7236000" y="5535720"/>
            <a:ext cx="1871640" cy="117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Gli introiti in caso di alienazione o cessione di quote di fondi immobiliari sono destinat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- 75% riduzione debito 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- 25% riduzione debito St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56"/>
          <p:cNvSpPr/>
          <p:nvPr/>
        </p:nvSpPr>
        <p:spPr>
          <a:xfrm>
            <a:off x="155520" y="5950080"/>
            <a:ext cx="6769080" cy="86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buClr>
                <a:srgbClr val="1f49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in uso per finalità dello Stato o per quelle di cui all'art. 2, com. 222, della L. 191/2009 e per i quali siano in corso procedure volte a consentirne l'uso per le medesime finalità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i beni per i quali siano in corso operazioni di valorizzazione o dismissione ai sensi dell’art. 33 DL 98/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beni appartenenti al demanio storico-artistico o di interesse storico-artistico, che possono essere trasferiti ai sensi dell’art.5, comma 5 del d.lgs 85/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7"/>
          <p:cNvSpPr/>
          <p:nvPr/>
        </p:nvSpPr>
        <p:spPr>
          <a:xfrm>
            <a:off x="136440" y="907920"/>
            <a:ext cx="1656000" cy="324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31" y="0"/>
                </a:lnTo>
                <a:lnTo>
                  <a:pt x="21600" y="10800"/>
                </a:lnTo>
                <a:lnTo>
                  <a:pt x="19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074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TIMING DELL’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56"/>
          <p:cNvSpPr/>
          <p:nvPr/>
        </p:nvSpPr>
        <p:spPr>
          <a:xfrm>
            <a:off x="162000" y="5661000"/>
            <a:ext cx="1187280" cy="28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Beni esclu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ccia angolare in su 38"/>
          <p:cNvSpPr/>
          <p:nvPr/>
        </p:nvSpPr>
        <p:spPr>
          <a:xfrm flipH="1">
            <a:off x="3906720" y="4959360"/>
            <a:ext cx="1043280" cy="647640"/>
          </a:xfrm>
          <a:custGeom>
            <a:avLst/>
            <a:gdLst>
              <a:gd name="textAreaLeft" fmla="*/ 0 w 1043280"/>
              <a:gd name="textAreaRight" fmla="*/ 973440 w 1043280"/>
              <a:gd name="textAreaTop" fmla="*/ 486000 h 647640"/>
              <a:gd name="textAreaBottom" fmla="*/ 648000 h 647640"/>
            </a:gdLst>
            <a:ahLst/>
            <a:rect l="textAreaLeft" t="textAreaTop" r="textAreaRight" b="textAreaBottom"/>
            <a:pathLst>
              <a:path w="1042987" h="647700">
                <a:moveTo>
                  <a:pt x="0" y="485775"/>
                </a:moveTo>
                <a:lnTo>
                  <a:pt x="811110" y="485775"/>
                </a:lnTo>
                <a:lnTo>
                  <a:pt x="811110" y="161925"/>
                </a:lnTo>
                <a:lnTo>
                  <a:pt x="741159" y="161925"/>
                </a:lnTo>
                <a:lnTo>
                  <a:pt x="892073" y="0"/>
                </a:lnTo>
                <a:lnTo>
                  <a:pt x="1042987" y="161925"/>
                </a:lnTo>
                <a:lnTo>
                  <a:pt x="973035" y="161925"/>
                </a:lnTo>
                <a:lnTo>
                  <a:pt x="973035" y="647700"/>
                </a:lnTo>
                <a:lnTo>
                  <a:pt x="0" y="6477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07:33:09Z</dcterms:created>
  <dc:creator>Claudio Lucidi</dc:creator>
  <dc:description/>
  <dc:language>en-US</dc:language>
  <cp:lastModifiedBy>Utente</cp:lastModifiedBy>
  <dcterms:modified xsi:type="dcterms:W3CDTF">2013-09-08T21:20:04Z</dcterms:modified>
  <cp:revision>20</cp:revision>
  <dc:subject/>
  <dc:title>Diapositiva 1</dc:title>
</cp:coreProperties>
</file>